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66C-87B2-4319-90F9-A6027B7F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EA6-9294-45D4-B552-D5AF7FC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9EE-A778-43F6-AED6-DD8BF1A4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BF6-6FEA-4A89-927D-D265B76D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2DB2-2553-4A2D-B8D6-9FDF5AA7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D6DD-A3F9-4FF9-B955-3F8CBB42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4E12-0087-4EF4-8249-28C4AE2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CD03-F8B1-4486-B748-E74F48C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0DB-0634-4D4D-8FDD-E0EAB2D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39C4-A614-4183-BFA9-7BAC7BF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080-56BC-4927-AC5E-ADCED1A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DFC-7F8D-47FF-BB75-CEC2343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B702-6A9B-4026-B795-2FE92E0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66C3-2FF6-4E06-81C7-2C52533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4400-A8D7-4522-AFD3-569D7DCD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1604-4416-4945-B786-04B64FEC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5C80-9535-4D70-A752-7E2D0A7E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AA-9A57-452F-B9BA-B604F407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CB7-4701-4BA3-87D6-89EAE1F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261-864E-4F82-90EF-76F6F178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525-4FE2-4A3D-BDEB-9ACF26E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6F1-F71F-4637-8682-46573D9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58B-155B-449B-9BB3-B6B5AF9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511-D46D-4764-A2CB-DB989E2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E62B-718C-4E23-A9BD-A533820EAC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E51-7242-450E-8293-B3F3722592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3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3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Ho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81756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compels a 21st century learner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Many Layers of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4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ny layers of a stud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aris:Users:toni:Desktop:EDS_RunningWithTheSquirrels.mov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602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9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80920" y="817560"/>
            <a:ext cx="765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In order to teach the squirrels,   you must think like the squirrel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Cognitive Flexibility Theory</a:t>
            </a:r>
            <a:br>
              <a:rPr sz="4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R. Spiro, P. Feltovitch &amp; R. Couls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419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bility to spontaneously restructure one's knowledge, in many ways, in adaptive response to changing situational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hasis is placed upon the presentation of information from multiple perspect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4582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uiding Principles of Cognitive Flexibil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Learning activities must provide multiple representations of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Instructional materials should avoid oversimplifying th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Instruction should emphasize knowledge construction, not transmission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Knowledge sources should be highly interconnected rather than     compartment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80920" y="817560"/>
            <a:ext cx="7653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w do we make learning compelling for our 21st century student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2590560" cy="167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Personalized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Releva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Contextualized</a:t>
            </a:r>
            <a:br>
              <a:rPr sz="8000"/>
            </a:b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7-06-13T12:10:55Z</dcterms:modified>
  <cp:revision>89</cp:revision>
  <dc:subject/>
  <dc:title>Essential Question:</dc:title>
</cp:coreProperties>
</file>